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FE6E-CD75-4188-BD30-40C2CEE5E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BB58-5DB4-4B5C-9685-84DA43F7D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E22D-A7AB-4212-9F33-336B13449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2481-7A71-4278-B122-B8C780E11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A6227-48F1-492D-98A1-B779936B3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BF7B2-33E3-4B7D-A87E-8D9597F2A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5897A-E27D-4CDE-AB7F-E9A6C7CC5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C647E-4205-4EE4-881F-6DAD28388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45F28-19C3-4DC4-9B17-381256CED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2F3FB-4C22-4F19-90FE-B4E787954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43DAC-78FB-403F-84D0-8F7F09C6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18A0-5382-4D71-A314-BA612C0C5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1257B-8459-4B46-ABFC-B2627B47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F698A-E6C6-4541-88A5-45D1D1BE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AFB70-299D-4D79-ACC7-9BEA47DE9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01167-8411-4554-83EB-03E9A9F12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E660D-747F-4079-9C58-78C80ACB8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E055-F716-4ABC-8EA8-786757F0B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690A-D243-4DDB-91C8-361189E36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1261-701D-417B-A3FA-497B81CFC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7B3C-5E91-4E1B-A4F1-31B8EE7BB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E3AE-BB6E-4EF9-BDFF-BF8D164A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139B-1146-4419-8620-2A4EA88D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C1B9-733D-475D-8FF5-5170FE8B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5D2588-987C-4476-8809-980DD7384162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D6561E-2891-478F-A3C3-B88B137FD0C4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Palatino Linotype"/>
                <a:ea typeface="Arial"/>
              </a:rPr>
              <a:t>Fiche profil de poste : chef de ray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 3" descr=""/>
          <p:cNvPicPr/>
          <p:nvPr/>
        </p:nvPicPr>
        <p:blipFill>
          <a:blip r:embed="rId1"/>
          <a:stretch/>
        </p:blipFill>
        <p:spPr>
          <a:xfrm>
            <a:off x="1482840" y="917640"/>
            <a:ext cx="632772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Besne.Julie</cp:lastModifiedBy>
  <dcterms:modified xsi:type="dcterms:W3CDTF">2018-09-04T16:42:58Z</dcterms:modified>
  <cp:revision>40</cp:revision>
  <dc:subject/>
  <dc:title>La Grande Distribution et son Marketing</dc:title>
</cp:coreProperties>
</file>