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641A-F3F1-4CCA-925B-98FAD48C1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6A52-9619-4E6C-90C3-4D85DA55E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4694-9F3E-4B12-9115-F5F743E45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ACCB-F97B-4C75-A336-DEDAA5AC9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5878E-6D74-4121-AB94-77AE471A0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B59B4-E7AD-42A8-9D49-D2461A770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08367-FC8B-419D-A9E3-690E51DF4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654C0-3F9D-4B4A-BA47-DAE656E6E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BF3B8-6DFF-49E4-AC50-B83126907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999A0-0FB1-46FC-90F5-D4D2489A8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ABF0F-6267-4281-B4C6-A9347331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3CFF-C459-495D-B032-F50C824D0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6F10D-5BA9-4B0A-ABA1-20DABD2CB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50B9B-5F9E-4D44-B0DA-483F3A88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1778E-B345-49D0-B2E4-E5C9C7166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331EA-6D91-43E6-B287-46A9F5C98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CFE7A-BB34-4E14-96F8-F3216F1E1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B4DC-8D83-44AA-BEF7-D98465075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3992-3312-450C-BB1A-831AA2DF6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E2F4-7F37-47B6-822A-2E1A49CD5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828D-748F-42DA-A185-5D083CAA0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6231-F303-49E9-B536-A860F5A3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390B-E881-4437-89B1-E83BC1BE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76D8-815F-45D3-9BC5-03DBD332B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18FD48-D26C-45E1-9568-5031DCB85E86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1FB535-B0D1-4B27-8EA0-B06BFADF35CC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oneTexte 2"/>
          <p:cNvSpPr/>
          <p:nvPr/>
        </p:nvSpPr>
        <p:spPr>
          <a:xfrm>
            <a:off x="379440" y="360360"/>
            <a:ext cx="821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Palatino Linotype"/>
                <a:ea typeface="Arial"/>
              </a:rPr>
              <a:t>Fiche profil de poste : chef de ray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mage 3" descr=""/>
          <p:cNvPicPr/>
          <p:nvPr/>
        </p:nvPicPr>
        <p:blipFill>
          <a:blip r:embed="rId1"/>
          <a:stretch/>
        </p:blipFill>
        <p:spPr>
          <a:xfrm>
            <a:off x="1482840" y="917640"/>
            <a:ext cx="632772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22:16:17Z</dcterms:created>
  <dc:creator>Samuel Mayol</dc:creator>
  <dc:description/>
  <dc:language>en-US</dc:language>
  <cp:lastModifiedBy>Besne.Julie</cp:lastModifiedBy>
  <dcterms:modified xsi:type="dcterms:W3CDTF">2018-09-04T16:42:58Z</dcterms:modified>
  <cp:revision>40</cp:revision>
  <dc:subject/>
  <dc:title>La Grande Distribution et son Marketing</dc:title>
</cp:coreProperties>
</file>