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C020-0747-44F0-907F-3BD42C06F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FD6A-946C-4ADC-8269-063F8E450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7BCC-263A-40F4-AA86-4C47B33BC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86D8-9855-4ADF-B4D4-E328E759A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A1EA-9E66-4976-A679-C62002058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C00C4-5418-4982-AA68-D4D0B474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70D83-4458-4D25-A4C4-BEBE10FD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B901-FB08-4DAC-B472-0A797238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8E66-ADFE-4D93-8FF4-271487C1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98EA-53BC-4C57-B9AB-AFA75C2A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3A12-FA3A-4476-A392-BF3210CC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AD62-A639-49DA-AEA1-6EBCDE81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4824-85E8-45DA-A1E5-FD22C8D5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F34F-386B-4651-BB52-C1DFABD3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ADFC3-3A55-4439-A827-50251931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D57D-DBC5-4CC6-BAF8-CB865295B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F8814-9564-4A46-B083-41C1E5516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5D6F-47C6-41EA-AB7F-29BEF303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245F-9A55-4926-AEF4-7283928E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7B29-ED12-4259-8BD5-CDA90F4A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CC52-EBDB-4E36-91AE-90BD7F4F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BC82-BAFB-4281-ABF8-460868EE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B555-3E27-4837-A2F0-D4B5DFB8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1D47-D1A0-4C9F-A096-D2ECF180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936EFE-71F1-41DB-9838-71B25509A4C4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8542FC-A415-4018-9FB8-C12FF30D63FF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Besne.Julie</cp:lastModifiedBy>
  <dcterms:modified xsi:type="dcterms:W3CDTF">2018-09-04T16:42:58Z</dcterms:modified>
  <cp:revision>40</cp:revision>
  <dc:subject/>
  <dc:title>La Grande Distribution et son Marketing</dc:title>
</cp:coreProperties>
</file>