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D773-D9BA-4B7F-8FB1-675F713D8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BA4B-43F3-41C6-A7D7-0BBB8EE5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C4AC-D281-4763-8712-0B395F2BE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8236-837F-421C-AA62-36A2DEBB4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8182-BE8F-4445-B143-74A8A1687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4B9F6-0365-41CD-A3AD-3FBE74FF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60A7-891F-4F74-9082-47FC86C3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9843-94B4-43B1-8598-25BF771A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8E18-251E-4F6E-9558-FF7900B1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4758-6C2C-4355-A290-46893876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9CA5-C82B-4A6E-B352-4C6DB94C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6675-F6BD-413D-B3EB-199FD8BC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8E71-CEE7-4395-99EB-56CD7DE9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6B9D-CE6E-439E-9380-12B56E84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839B-A9ED-4272-B437-88547510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AFB0-BA2C-474A-B3CA-98E0A661E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F736-6C04-44A9-8B17-C9DA00C48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5D6B-AEDC-40C8-AD90-7B2B7708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25CA-DE11-4311-B5CC-6E7885ED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1336-BF7C-43EC-8936-CA89B1D05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21CC-893C-4AF3-81FF-06B52317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000D-DD0A-4131-95BF-5FCFD816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7BEE-6C26-4755-9243-CADEE592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BE67-2FD7-4509-A96C-86714864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B909CB-1210-40EE-8C58-17E4984F82AA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CA196D-50A1-47A0-A38B-F685E1E50A5C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Besne.Julie</cp:lastModifiedBy>
  <dcterms:modified xsi:type="dcterms:W3CDTF">2018-09-04T16:42:58Z</dcterms:modified>
  <cp:revision>40</cp:revision>
  <dc:subject/>
  <dc:title>La Grande Distribution et son Marketing</dc:title>
</cp:coreProperties>
</file>