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4DD5-0351-4745-80D9-726FB6B2C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C32A-FF41-4734-86D4-64DA93CF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DC56-79A0-42FD-9CB6-EB2DB31D6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0808-773C-47DE-9A4F-539E05E68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95B4B-D7A8-4E01-AD95-EB0F95A0B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ED02-9095-46BF-8C34-5681ACC6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36A5-6CCA-4954-80C7-FA66FDC5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452AE-3E83-45C8-B07D-D90BB5EB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A3FBB-B387-44E7-9418-D9AFED6F8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5483-31C8-4252-994D-FE57041E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BDB8-CB0F-48CB-B191-7B117A3C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CE1A-E249-4B41-BD14-0F0D8105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A80E2-D3F9-45F3-9F81-5876A0A5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06AF-23FB-4920-931F-80529A7F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FF50-EC6D-4B4C-B9ED-DFE29386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9F3CC-7788-4989-BBEC-D7F2A0B2E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A5E7D-DF42-4E24-85E5-7D000B8CE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C3BA-1734-4CE7-B910-6EAB380E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838A-CF9B-45E9-8BC5-CC1D3480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0D57-7605-4D18-BBA1-9B2EDC41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CAFF-C327-4798-ABDE-BEA4528F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647A-2599-4E7A-AB79-A6A2B96A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17B0-1141-438B-979E-2E40ECAB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9EC1-7C8E-4B63-A019-36BC9C7B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F6527F-3A5D-41DF-9E46-01602DCFFE9B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C397C6-C9A3-4C7E-8411-2ECF55D2D668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Besne.Julie</cp:lastModifiedBy>
  <dcterms:modified xsi:type="dcterms:W3CDTF">2018-09-04T16:42:58Z</dcterms:modified>
  <cp:revision>40</cp:revision>
  <dc:subject/>
  <dc:title>La Grande Distribution et son Marketing</dc:title>
</cp:coreProperties>
</file>