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9560-9D0C-410C-A457-339AD89A7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E6FD-1A07-47DA-9010-1DD2FE66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03A2-602B-4E96-BF17-86043B5DB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BA9F-0CB3-4515-A32A-759CB2676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A557-F775-43F3-A3CB-2E0715EE9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9B5A-F0D0-49A7-AB11-AEE1285A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43A31-A145-49DC-8E55-D1EE9042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2248-CF1C-4D08-9FAA-1F0B59DA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EDC5-F7BC-4796-9191-30D79EB6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5249-C5F5-4D59-AE3C-827442EB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3D627-107A-4AFF-8609-360101CC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6036-4D0D-4428-AA53-4933F6A4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FA90-F165-46F0-A6E1-FBC840BC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C673-E601-4517-8180-BA798AEC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4E38-07E0-4A0B-9276-BCE58462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C783-5A3E-4568-A583-0594BC2AA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E36A-239D-4C39-AD44-77A1587F1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4E95-96FF-45FB-A007-289AA5A5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003D-3A5F-43D0-9817-DAAAD610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767C-7746-4268-9547-BBE88C23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2079-0787-4526-81E9-8035FC9C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A263-B35E-4771-B627-1F7A41E1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4174-32B0-403B-B668-FF7714F1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46FA-D0C2-4314-9E2F-3730C75B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AC65FB-EEC1-48BC-A84E-1235A31A1CDC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E72EA9-2A8F-4846-9368-BF3AB25859DF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rganigramme du Carrefour de Monde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Diagramme 6" descr=""/>
          <p:cNvPicPr/>
          <p:nvPr/>
        </p:nvPicPr>
        <p:blipFill>
          <a:blip r:embed="rId1"/>
          <a:stretch/>
        </p:blipFill>
        <p:spPr>
          <a:xfrm>
            <a:off x="1517760" y="1212840"/>
            <a:ext cx="650376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  <p:sp>
        <p:nvSpPr>
          <p:cNvPr id="93" name="ZoneTexte 3"/>
          <p:cNvSpPr/>
          <p:nvPr/>
        </p:nvSpPr>
        <p:spPr>
          <a:xfrm>
            <a:off x="3575160" y="2494080"/>
            <a:ext cx="1770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Chef de ray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oneTexte 4"/>
          <p:cNvSpPr/>
          <p:nvPr/>
        </p:nvSpPr>
        <p:spPr>
          <a:xfrm>
            <a:off x="5022720" y="2671920"/>
            <a:ext cx="1770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fr-FR" sz="11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oneTexte 5"/>
          <p:cNvSpPr/>
          <p:nvPr/>
        </p:nvSpPr>
        <p:spPr>
          <a:xfrm>
            <a:off x="2327400" y="3668760"/>
            <a:ext cx="16938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Management de l’équi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Gestion des stocks </a:t>
            </a:r>
            <a:br>
              <a:rPr sz="1100"/>
            </a:b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et des command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oneTexte 6"/>
          <p:cNvSpPr/>
          <p:nvPr/>
        </p:nvSpPr>
        <p:spPr>
          <a:xfrm>
            <a:off x="5121360" y="3578400"/>
            <a:ext cx="19875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Choix des produits à mettre en ava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Organisation des animations et des promotions dans le ray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7"/>
          <p:cNvSpPr/>
          <p:nvPr/>
        </p:nvSpPr>
        <p:spPr>
          <a:xfrm>
            <a:off x="3300480" y="5303880"/>
            <a:ext cx="3041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Organisé, polyvalent, responsable, souriant, sens du conta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jbesne</cp:lastModifiedBy>
  <dcterms:modified xsi:type="dcterms:W3CDTF">2018-06-12T14:07:08Z</dcterms:modified>
  <cp:revision>41</cp:revision>
  <dc:subject/>
  <dc:title>La Grande Distribution et son Marketing</dc:title>
</cp:coreProperties>
</file>