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46D9-86B3-41BA-8446-9C9A82A67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7AA5-C70B-415F-BE6F-28F56BBB4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58B8-46C6-4E3B-9ED3-DD0BA24C6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00D8-8A77-4BB1-BF0F-9165B1CB8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7CF78-C128-4852-9B30-5C2B78324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69B84-2AA3-4862-9266-A3D9FA73E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F7F97-393E-45FA-8FAC-7B3513B22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70CDA-78FB-43A0-8DBC-C3F3FE94B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CA089-F2E5-4BC2-92EC-E31263214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520D0-82A5-41EB-90D1-8E1368624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D98DB-10F2-4F47-84EB-4793AA38F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059C-BEBA-4584-A783-D8D69638C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76D27-A99E-4726-9AEB-2C6CD260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980DF-4192-47FB-A9D5-FBBF07CFA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BEF0E-5AAF-4E74-818D-98FA7F3B1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51468-C78B-4A34-8716-A0D22DA0C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A650C-3921-42CD-8458-0305F9D2C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BDE0-D1C5-49B7-879A-D0AB098F0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F1B7-A0D8-4554-92E3-C58C3D812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E604-9178-4700-AD1A-262FC458E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F594-685F-41E2-A0E3-FCE4657D9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A71D-A0A4-44F8-A0C0-521D21D8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CBC5-A381-4149-AD13-974AD18D3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3EA4-3818-4D38-A0E0-E4D9DE49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7870DB-F941-4D75-888C-6D4422DB0B5F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0FA995-5020-4988-BCCD-3EFC6D091DD5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oneTexte 2"/>
          <p:cNvSpPr/>
          <p:nvPr/>
        </p:nvSpPr>
        <p:spPr>
          <a:xfrm>
            <a:off x="379440" y="360360"/>
            <a:ext cx="821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rganigramme du Carrefour de Mondev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Diagramme 6" descr=""/>
          <p:cNvPicPr/>
          <p:nvPr/>
        </p:nvPicPr>
        <p:blipFill>
          <a:blip r:embed="rId1"/>
          <a:stretch/>
        </p:blipFill>
        <p:spPr>
          <a:xfrm>
            <a:off x="1517760" y="1212840"/>
            <a:ext cx="650376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ZoneTexte 2"/>
          <p:cNvSpPr/>
          <p:nvPr/>
        </p:nvSpPr>
        <p:spPr>
          <a:xfrm>
            <a:off x="379440" y="360360"/>
            <a:ext cx="821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iche profil de poste : chef de ray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Image 3" descr=""/>
          <p:cNvPicPr/>
          <p:nvPr/>
        </p:nvPicPr>
        <p:blipFill>
          <a:blip r:embed="rId1"/>
          <a:stretch/>
        </p:blipFill>
        <p:spPr>
          <a:xfrm>
            <a:off x="1482840" y="917640"/>
            <a:ext cx="6327720" cy="5340240"/>
          </a:xfrm>
          <a:prstGeom prst="rect">
            <a:avLst/>
          </a:prstGeom>
          <a:ln w="0">
            <a:noFill/>
          </a:ln>
        </p:spPr>
      </p:pic>
      <p:sp>
        <p:nvSpPr>
          <p:cNvPr id="93" name="ZoneTexte 3"/>
          <p:cNvSpPr/>
          <p:nvPr/>
        </p:nvSpPr>
        <p:spPr>
          <a:xfrm>
            <a:off x="3575160" y="2494080"/>
            <a:ext cx="1770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Chef de ray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ZoneTexte 4"/>
          <p:cNvSpPr/>
          <p:nvPr/>
        </p:nvSpPr>
        <p:spPr>
          <a:xfrm>
            <a:off x="5022720" y="2671920"/>
            <a:ext cx="1770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fr-FR" sz="11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oneTexte 5"/>
          <p:cNvSpPr/>
          <p:nvPr/>
        </p:nvSpPr>
        <p:spPr>
          <a:xfrm>
            <a:off x="2327400" y="3668760"/>
            <a:ext cx="169380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Management de l’équip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Gestion des stocks </a:t>
            </a:r>
            <a:br>
              <a:rPr sz="1100"/>
            </a:b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et des command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oneTexte 6"/>
          <p:cNvSpPr/>
          <p:nvPr/>
        </p:nvSpPr>
        <p:spPr>
          <a:xfrm>
            <a:off x="5121360" y="3578400"/>
            <a:ext cx="198756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Choix des produits à mettre en ava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Organisation des animations et des promotions dans le ray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ZoneTexte 7"/>
          <p:cNvSpPr/>
          <p:nvPr/>
        </p:nvSpPr>
        <p:spPr>
          <a:xfrm>
            <a:off x="3300480" y="5303880"/>
            <a:ext cx="3041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Organisé, polyvalent, responsable, souriant, sens du contac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22:16:17Z</dcterms:created>
  <dc:creator>Samuel Mayol</dc:creator>
  <dc:description/>
  <dc:language>en-US</dc:language>
  <cp:lastModifiedBy>jbesne</cp:lastModifiedBy>
  <dcterms:modified xsi:type="dcterms:W3CDTF">2018-06-12T14:07:08Z</dcterms:modified>
  <cp:revision>41</cp:revision>
  <dc:subject/>
  <dc:title>La Grande Distribution et son Marketing</dc:title>
</cp:coreProperties>
</file>