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ACCD-EDE0-48B1-B348-121E88B6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0F8E-B659-4277-AC79-5C66C979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1AE1-B056-44C1-93A0-6DD2AE7E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3ADC-17D6-4D03-9A42-B64D70C9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E1A6-88CF-4805-B459-04BA89B3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C168-D8F3-4BBB-88D2-10F274C3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46CA-4B79-4755-BCBD-4F747DEB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572E-F6C3-4C5E-8041-D24FB4C6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0BC8-D6B5-4FA9-9AC8-8DA0BD35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C8EC-7E52-477F-B23C-6B05F1D7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3C6D-226C-4D7A-A53C-BB8E8D56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8784-F493-4370-8842-F1198FFE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B436-60BE-4A6D-BFC3-EFF25D7F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2402-02AC-4F8E-8F1F-B29CCBC4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D98E-7641-4AC8-BE87-21F92D66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08E5-359B-4914-9C9C-8975AFC05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7DE0-FEDD-4029-AA69-0D4173D5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D3F1-8D66-4EBF-A79C-E4DEE9B1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AF21-7B8D-46F2-A667-9EEDF8FA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1327-D499-4B57-9949-B375CF43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B65C-8473-4F38-8E3E-9F3A8CC6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4F7D-42D0-4573-AAB0-B7D4E2DE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837A-74A7-44BE-874B-EC1612BF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61B9-FC9E-4DE8-A22E-EBED9FCC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7BF41B-D098-4B62-B11D-8FBC8525B139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13F4BE-C83F-492E-88AC-E4AF91BB4157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rganigramme du Carrefour de Mond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6" descr=""/>
          <p:cNvPicPr/>
          <p:nvPr/>
        </p:nvPicPr>
        <p:blipFill>
          <a:blip r:embed="rId1"/>
          <a:stretch/>
        </p:blipFill>
        <p:spPr>
          <a:xfrm>
            <a:off x="1517760" y="1212840"/>
            <a:ext cx="65037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3"/>
          <p:cNvSpPr/>
          <p:nvPr/>
        </p:nvSpPr>
        <p:spPr>
          <a:xfrm>
            <a:off x="3575160" y="249408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ef d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4"/>
          <p:cNvSpPr/>
          <p:nvPr/>
        </p:nvSpPr>
        <p:spPr>
          <a:xfrm>
            <a:off x="5022720" y="267192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11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"/>
          <p:cNvSpPr/>
          <p:nvPr/>
        </p:nvSpPr>
        <p:spPr>
          <a:xfrm>
            <a:off x="2327400" y="3668760"/>
            <a:ext cx="1693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Management de l’équ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Gestion des stocks </a:t>
            </a:r>
            <a:br>
              <a:rPr sz="1100"/>
            </a:b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et des comman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6"/>
          <p:cNvSpPr/>
          <p:nvPr/>
        </p:nvSpPr>
        <p:spPr>
          <a:xfrm>
            <a:off x="5121360" y="3578400"/>
            <a:ext cx="1987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oix des produits à mettre en av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ation des animations et des promotions dans l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7"/>
          <p:cNvSpPr/>
          <p:nvPr/>
        </p:nvSpPr>
        <p:spPr>
          <a:xfrm>
            <a:off x="3300480" y="5303880"/>
            <a:ext cx="304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é, polyvalent, responsable, souriant, sens du cont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7:08Z</dcterms:modified>
  <cp:revision>41</cp:revision>
  <dc:subject/>
  <dc:title>La Grande Distribution et son Marketing</dc:title>
</cp:coreProperties>
</file>