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6C99-B63A-4AED-81EF-A1C9FA1E9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CD6B7-102C-46C8-8781-16E5506F1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846D-4972-42CF-8815-7E3670D7C7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5D4B-C04A-4983-AC19-489EDA66E6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A43D9-5EA8-4EDB-8937-D73FCF11F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3B036-725B-4EF8-A4C4-5FBD6F3A3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BAE3B-A3C6-4C47-B1A4-BD67EBAC9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53586-821B-473F-A70B-0A8D9177D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5F04F-474C-4B03-9EB5-D89C5F434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E863C-EF92-4655-B251-C1D3EA4C6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D6A65-55AB-4E08-A681-8AD2C78A8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549A-C6AD-401B-886F-3C9A18968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04345-34E0-427A-8ED7-C992A37EE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D6B9E-BE55-492C-B5E2-F4A123C7F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421EA-1B6A-409A-8E34-149CA1FF5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7D766-3142-451A-8F87-36BF21C98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15837-BA9F-4032-8850-EA54C09CB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2804A-93A9-4DC1-A03E-96304A2ED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355D8-921B-4752-B5A5-28350EA55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D3E03-E413-467E-8392-9DD9739E1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408CA-4404-4F9C-A093-7D945BE11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A361-3F9C-4EC8-95FE-D68ACC379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58636-770E-4BB0-A894-71CACD90E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74361-7D6F-4954-94C9-F00F63DB1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ABFBC38-FA03-4B9B-969B-FF936EDE8D8F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78A40C-0130-45E3-B395-2EFB9E27C095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oneTexte 2"/>
          <p:cNvSpPr/>
          <p:nvPr/>
        </p:nvSpPr>
        <p:spPr>
          <a:xfrm>
            <a:off x="379440" y="360360"/>
            <a:ext cx="821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Organigramme du Carrefour de Mondev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Diagramme 6" descr=""/>
          <p:cNvPicPr/>
          <p:nvPr/>
        </p:nvPicPr>
        <p:blipFill>
          <a:blip r:embed="rId1"/>
          <a:stretch/>
        </p:blipFill>
        <p:spPr>
          <a:xfrm>
            <a:off x="1517760" y="1212840"/>
            <a:ext cx="6503760" cy="45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ZoneTexte 2"/>
          <p:cNvSpPr/>
          <p:nvPr/>
        </p:nvSpPr>
        <p:spPr>
          <a:xfrm>
            <a:off x="379440" y="360360"/>
            <a:ext cx="821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iche profil de poste : chef de ray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Image 3" descr=""/>
          <p:cNvPicPr/>
          <p:nvPr/>
        </p:nvPicPr>
        <p:blipFill>
          <a:blip r:embed="rId1"/>
          <a:stretch/>
        </p:blipFill>
        <p:spPr>
          <a:xfrm>
            <a:off x="1482840" y="917640"/>
            <a:ext cx="6327720" cy="5340240"/>
          </a:xfrm>
          <a:prstGeom prst="rect">
            <a:avLst/>
          </a:prstGeom>
          <a:ln w="0">
            <a:noFill/>
          </a:ln>
        </p:spPr>
      </p:pic>
      <p:sp>
        <p:nvSpPr>
          <p:cNvPr id="93" name="ZoneTexte 3"/>
          <p:cNvSpPr/>
          <p:nvPr/>
        </p:nvSpPr>
        <p:spPr>
          <a:xfrm>
            <a:off x="3575160" y="2494080"/>
            <a:ext cx="1770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Chef de ray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ZoneTexte 4"/>
          <p:cNvSpPr/>
          <p:nvPr/>
        </p:nvSpPr>
        <p:spPr>
          <a:xfrm>
            <a:off x="5022720" y="2671920"/>
            <a:ext cx="1770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fr-FR" sz="1100" spc="-1" strike="noStrike" baseline="30000">
                <a:solidFill>
                  <a:srgbClr val="000000"/>
                </a:solidFill>
                <a:latin typeface="Arial"/>
              </a:rPr>
              <a:t>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ZoneTexte 5"/>
          <p:cNvSpPr/>
          <p:nvPr/>
        </p:nvSpPr>
        <p:spPr>
          <a:xfrm>
            <a:off x="2327400" y="3668760"/>
            <a:ext cx="169380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Management de l’équip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Gestion des stocks </a:t>
            </a:r>
            <a:br>
              <a:rPr sz="1100"/>
            </a:b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et des commandes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oneTexte 6"/>
          <p:cNvSpPr/>
          <p:nvPr/>
        </p:nvSpPr>
        <p:spPr>
          <a:xfrm>
            <a:off x="5121360" y="3578400"/>
            <a:ext cx="1987560" cy="100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Choix des produits à mettre en avan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Organisation des animations et des promotions dans le ray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ZoneTexte 7"/>
          <p:cNvSpPr/>
          <p:nvPr/>
        </p:nvSpPr>
        <p:spPr>
          <a:xfrm>
            <a:off x="3300480" y="5303880"/>
            <a:ext cx="304164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100" spc="-1" strike="noStrike">
                <a:solidFill>
                  <a:srgbClr val="000000"/>
                </a:solidFill>
                <a:latin typeface="Arial"/>
              </a:rPr>
              <a:t>Organisé, polyvalent, responsable, souriant, sens du contac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22:16:17Z</dcterms:created>
  <dc:creator>Samuel Mayol</dc:creator>
  <dc:description/>
  <dc:language>en-US</dc:language>
  <cp:lastModifiedBy>jbesne</cp:lastModifiedBy>
  <dcterms:modified xsi:type="dcterms:W3CDTF">2018-06-12T14:07:08Z</dcterms:modified>
  <cp:revision>41</cp:revision>
  <dc:subject/>
  <dc:title>La Grande Distribution et son Marketing</dc:title>
</cp:coreProperties>
</file>