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064C-8758-48B4-AA47-320AE5F39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37353-5A54-40CA-89CD-35CBF0DA5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C2A86-EAA7-460F-B75A-66F547547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435DB-3D24-4E9F-8DEE-70014DCD08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D5A8D-4CFC-4228-A0C9-D1CB7DEE6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B9E4D-FE79-4C26-B279-2C1CDB145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5B66D-52A4-453C-9242-B76E66BD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5B3F9-C0C3-4D59-8BD9-E4EC246B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A5F12-554C-4362-96C8-3C1BA497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47D7C-2749-47A9-A32E-2B634B2CA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CE7CA-8D69-46CC-8035-68ACD615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969F-5747-460D-9B96-17930C760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B498C-5611-421B-89E7-3E0FAC17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64304-CD76-402D-B5D7-421D3027D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17FC-31FE-4BD5-9F2B-9E4DDB4DA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81C0D2-FAFD-494D-B47B-1A9326CED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E1F3-9352-47A1-8078-A8C2261CF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2207F-219B-48A4-B7CB-A4B355F57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2F1F-E5DC-457B-A417-052642993A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4A92A-4D56-4C65-8DD9-2D139FEE5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44F95-F1A2-43BC-B987-F9D8A0617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E3B09-2124-4200-A0FD-FF6B1CA9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DB920-9B67-4A88-BB5F-C82A29683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AFBD-70CF-486D-A728-2D78D7A33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17FA78-943C-48A3-AF58-41331677D10B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E38998D-D84F-4259-A755-880C2F1B12D8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34800"/>
            <a:ext cx="8218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Le fonctionnement du réseau Leclerc et le rôle des stru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Diagramme 3" descr=""/>
          <p:cNvPicPr/>
          <p:nvPr/>
        </p:nvPicPr>
        <p:blipFill>
          <a:blip r:embed="rId1"/>
          <a:stretch/>
        </p:blipFill>
        <p:spPr>
          <a:xfrm>
            <a:off x="1268280" y="1023840"/>
            <a:ext cx="68025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jbesne</cp:lastModifiedBy>
  <dcterms:modified xsi:type="dcterms:W3CDTF">2018-06-12T14:08:15Z</dcterms:modified>
  <cp:revision>47</cp:revision>
  <dc:subject/>
  <dc:title>La Grande Distribution et son Marketing</dc:title>
</cp:coreProperties>
</file>