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F857D-DE66-48D4-801D-FBEBFC3B99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C1CEF-A81F-49D4-B920-DBA82B0DE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A954-7E9A-417E-A94F-B2829C97D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7FE-3869-4A84-86A8-F28DF351C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98B30-6168-42F2-B20E-712E138B7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C802-D83D-4C35-90DD-329CC9D58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5B958-A294-42AA-B2E6-17642CA3D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43F91-22A9-4714-9011-9902E073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7121-5CA8-43CB-B687-65D71A01F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4881D-186B-485C-88BB-D27C4E7DE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D04F7-5E1C-4274-AC46-0597F9798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8339-4140-4728-BF16-520CAB516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45D2E-03FF-48D4-9064-E8B1BBD79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701A8-3D7F-414D-888B-1FA9715DB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EAD85-9030-4F69-9EE0-AF00719AD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3CDB-6147-4A71-93A1-C38D393EB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C82F-4C41-4331-9FA7-6EFBDD68D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AD05-AC42-4CAA-9C03-FFEDA1E7A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3BABB-40F3-42BE-B87E-9E542146A6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EE58-7808-425A-A7A4-35F9C85A3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7A1-A15E-4BA1-A40E-ADD732DB6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1CC93-1077-4C3C-9743-B7E81B5BD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2FFE-7711-4094-AAB8-BD2A356B0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326-3605-4C83-A8B4-6A2798A9A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FE0E7A5-DC7E-4C58-95E7-154D6ADED4F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fr-FR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567278E-935C-430C-BF67-92108E0B84D1}" type="slidenum">
              <a:rPr b="0" lang="fr-FR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ZoneTexte 2"/>
          <p:cNvSpPr/>
          <p:nvPr/>
        </p:nvSpPr>
        <p:spPr>
          <a:xfrm>
            <a:off x="379440" y="360360"/>
            <a:ext cx="8218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Palatino Linotype"/>
                <a:ea typeface="Arial"/>
              </a:rPr>
              <a:t>Fiche profil de poste : chef de ray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Image 3" descr=""/>
          <p:cNvPicPr/>
          <p:nvPr/>
        </p:nvPicPr>
        <p:blipFill>
          <a:blip r:embed="rId1"/>
          <a:stretch/>
        </p:blipFill>
        <p:spPr>
          <a:xfrm>
            <a:off x="1482840" y="917640"/>
            <a:ext cx="6327720" cy="534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0T22:16:17Z</dcterms:created>
  <dc:creator>Samuel Mayol</dc:creator>
  <dc:description/>
  <dc:language>en-US</dc:language>
  <cp:lastModifiedBy>Besne.Julie</cp:lastModifiedBy>
  <dcterms:modified xsi:type="dcterms:W3CDTF">2018-09-04T16:42:58Z</dcterms:modified>
  <cp:revision>40</cp:revision>
  <dc:subject/>
  <dc:title>La Grande Distribution et son Marketing</dc:title>
</cp:coreProperties>
</file>