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9CB1-2239-46CB-B972-2E26685B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475E-8F4C-4104-B5A8-D9934B45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BFA0-DCDC-43DB-900B-9D2B2BC6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A4B9-99BC-477E-A907-4EE55FC1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4DAC-0351-4B0E-A89D-D9C4D52B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1689-874A-4124-B724-8DF0B8AC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F727-D4DB-42CA-88C4-642D94D5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7434-525F-4CF1-A47F-D73CCEE6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9C0A-50C2-4E98-AC79-7211415C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3240-49DF-4471-8A99-39D67052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2541-8B84-4387-AECA-7F364F3E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B4C4-5F39-4FFF-8E42-ACA409CC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D743-3943-4D29-BE1C-84C7B9EA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D87C-D90B-487C-9955-7F63B81E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6785-2E7F-40E4-8C2D-65E7FF22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8344-4AD8-4F33-B028-1D7A9C6E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480B-081E-4410-A683-5BCE4C96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EFFA-4029-4969-AD75-CDFC93EC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5713-9462-4157-93A1-C8E67284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C29-0DB7-49EF-8034-3894BAC6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A855-5AF8-45E6-BC35-F2600DED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3256-E2FB-4C30-912A-34F2CE10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4197-C15C-4EB1-B7B5-83EF521B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E1FB-4ACA-4BEC-BD63-3BFF011B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32DD2-8704-4673-996B-DFBCF748B165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815B38-0697-4543-AB0A-82B2EA78E6FD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ganigramme du Carrefour de Mond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6" descr=""/>
          <p:cNvPicPr/>
          <p:nvPr/>
        </p:nvPicPr>
        <p:blipFill>
          <a:blip r:embed="rId1"/>
          <a:stretch/>
        </p:blipFill>
        <p:spPr>
          <a:xfrm>
            <a:off x="1517760" y="1212840"/>
            <a:ext cx="6503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3"/>
          <p:cNvSpPr/>
          <p:nvPr/>
        </p:nvSpPr>
        <p:spPr>
          <a:xfrm>
            <a:off x="3575160" y="249408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ef d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4"/>
          <p:cNvSpPr/>
          <p:nvPr/>
        </p:nvSpPr>
        <p:spPr>
          <a:xfrm>
            <a:off x="5022720" y="267192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11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"/>
          <p:cNvSpPr/>
          <p:nvPr/>
        </p:nvSpPr>
        <p:spPr>
          <a:xfrm>
            <a:off x="2327400" y="3668760"/>
            <a:ext cx="16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nagement de l’équ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Gestion des stocks </a:t>
            </a:r>
            <a:br>
              <a:rPr sz="1100"/>
            </a:b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et des comman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6"/>
          <p:cNvSpPr/>
          <p:nvPr/>
        </p:nvSpPr>
        <p:spPr>
          <a:xfrm>
            <a:off x="5121360" y="3578400"/>
            <a:ext cx="1987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oix des produits à mettre en av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ation des animations et des promotions dans l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7"/>
          <p:cNvSpPr/>
          <p:nvPr/>
        </p:nvSpPr>
        <p:spPr>
          <a:xfrm>
            <a:off x="3300480" y="5303880"/>
            <a:ext cx="304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é, polyvalent, responsable, souriant, sens du cont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7:08Z</dcterms:modified>
  <cp:revision>41</cp:revision>
  <dc:subject/>
  <dc:title>La Grande Distribution et son Marketing</dc:title>
</cp:coreProperties>
</file>