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03FF-1204-471E-A4A8-2D21BD2B6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7752-E2B1-4061-BCC1-DAEFE8B4C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588E-CE55-4CBC-B581-27D66E9BD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69CC-7F68-4476-B9C3-6AEF7E46E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C317A-BFC0-43CC-A013-E0DE79D44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104D6-26B1-41AA-B398-CDBF9EBDD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E4C70-B9E7-41A5-8F5B-F860F0EA0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C5018-C842-42AB-AA0A-E7D676958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E5B11-4C94-4F8D-8D27-C05250591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157F3-F4D5-48F9-A8C3-5A70FC468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A2C51-2684-4534-8018-F8775E16F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BB63-9069-435A-B54A-392354208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E9BBA-DA95-4683-A604-08E3AE3ED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30B49-65D4-4E3D-AFC2-AA2FC1EF6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ECB0D-13B9-42BD-BC90-6EA17707A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E2A00-6197-4FAC-A5A1-EF847A449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BD8A4-B679-44E0-86AB-9E80325F3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873E-5EBA-43D5-B7C0-844069316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7F19-7ED0-45CD-9A2F-F6A4F3D6D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8831-AFD2-4E8E-A051-A0FACB516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6099-AEA5-444C-8A39-9E3D27A1D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F4E2-38BE-465C-B8EB-2580A6B87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C8A5-67DE-493B-A363-3C8BEB18D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146A-5106-4928-B39B-AFDE71181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EC3BEF-41AF-43F7-91CE-88F0CEF2B4FF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782FE8-D08B-42B8-9130-93D87A11F360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ZoneTexte 2"/>
          <p:cNvSpPr/>
          <p:nvPr/>
        </p:nvSpPr>
        <p:spPr>
          <a:xfrm>
            <a:off x="379440" y="360360"/>
            <a:ext cx="821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Palatino Linotype"/>
                <a:ea typeface="Arial"/>
              </a:rPr>
              <a:t>Fiche profil de poste : chef de ray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Image 3" descr=""/>
          <p:cNvPicPr/>
          <p:nvPr/>
        </p:nvPicPr>
        <p:blipFill>
          <a:blip r:embed="rId1"/>
          <a:stretch/>
        </p:blipFill>
        <p:spPr>
          <a:xfrm>
            <a:off x="1482840" y="917640"/>
            <a:ext cx="6327720" cy="53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22:16:17Z</dcterms:created>
  <dc:creator>Samuel Mayol</dc:creator>
  <dc:description/>
  <dc:language>en-US</dc:language>
  <cp:lastModifiedBy>Besne.Julie</cp:lastModifiedBy>
  <dcterms:modified xsi:type="dcterms:W3CDTF">2018-09-04T16:42:58Z</dcterms:modified>
  <cp:revision>40</cp:revision>
  <dc:subject/>
  <dc:title>La Grande Distribution et son Marketing</dc:title>
</cp:coreProperties>
</file>